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98F-D96C-4E54-B856-12F3AE6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1A6-9913-4506-A44C-A02AAA59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6D7B-2AB7-45C8-B39C-E1D4E1F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3A1CD-0600-4E02-A1C3-45EFAE2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9B492-33A6-43BE-AD01-A0273F4F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5DC17-FE25-4186-A8F3-6D2BB01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AFAEE-AED9-4CCF-826E-82EDACF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9543-206A-47AA-A7E0-5D1A653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798AC-1CDE-47A8-B016-EAA6DDD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83A25-C059-4AA0-ACBA-246457E7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A9961-709E-4B9E-B6A0-99FD1E0C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D8892-5648-430D-808B-2F2C85BF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69C-59F3-475A-95B6-54C26237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DEE75-F565-4675-9231-3BA6A616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BCD30-B674-435E-B108-1C51F7D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9325D-A2BA-467E-9B7D-6D9EC25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1871-93F5-4F6C-8651-3A06501E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1693C-7065-4D75-A469-E8CD701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20B58-48B4-43CE-8DF0-753131A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FFEF-5D49-4AF0-80B3-62FBFA6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047A-EB69-41D3-8FF7-1C037C8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D8AC-F2F3-41DF-8E84-263F954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9BB14-7494-44B0-88EC-AAF2A5CC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DC2-0323-46B3-A09C-39B9A1ED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7EBC6-16E6-4BF1-8490-C35CD359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7B6B46-26CD-4401-9D0F-5FB70B0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5F3B8A-23F4-4343-9669-1AB53ED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422B34-970C-4B3B-879B-FA4F86F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7BC2CE-92DF-419E-8963-19389A1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E505A5-47BF-4EC2-92D1-BCD5E396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02AA27-A369-43A4-8B54-EECD774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A82D38-8B5B-4CFC-92C1-B369855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9B36B-CB28-424B-B072-DE1DB71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D8BFFB-9677-490A-A404-0D5F8F1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80F-9D37-4C77-9157-4F359EAF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39047D-66CD-42A2-8754-E87B3210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96EA7-E593-46FF-8EE8-7B9612A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84837C-B177-4C73-B764-F594104E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3CC12-0F35-47D0-B1E3-8A1A3954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736E5-A678-458D-AC6F-35E56A6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20150-C325-4ABE-BD88-B44DFAD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ADC4F-9437-48F6-A3C6-3D888B1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39BAD-9FE3-4607-8399-30C2E69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FBEF-C2E0-4491-B4DE-9CFDF4D3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2F69-3F0B-4BC9-A87E-697074A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6CA7-45E6-4C4C-9AA1-221A1AC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31F21-ABF0-4D83-9023-3646840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26AE5-68CF-4446-BEAB-15FA0F0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EB907-C0DD-4682-B3C0-F2BF9AF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9AC48-2193-4DB4-B9B7-C0277777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6F94B-7C92-4ACA-BF99-4D640DC2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DE539-17D7-4442-BD4C-308CA4EB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6B576-22A7-49C8-B698-F461E75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0900C-50F4-450F-B8A7-D28447B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67ECB-0B69-41D5-BF39-D2613B83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99812-5F39-4E7D-AD57-DF9A7C32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93C1-485E-4DF1-BE59-53001002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B021B-6E3D-45EA-BFFB-07E5829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D6263-C832-4308-BDDC-BC3D93A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3511A-FFB1-49F3-B16F-21EC775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CA888-6078-4F13-AECC-8FFFD4C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838A1-72F5-4E91-BB05-F63E608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41E26-AC34-4DE9-9AA6-8FD28D77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B1FCC-F100-4A29-9558-0101E7B2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41940-D838-4517-8E27-F9A8CBDA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9F7CD-68D8-4790-9759-98661DD9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64C87-42B0-4871-BF7E-05858B5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D163-7E8E-4933-9306-D8965E8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CCCF3-96D6-4783-B0D3-8C939553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4AAA3-8352-490F-8843-F789CBD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DA1CC-B623-4DC5-BAB4-765FCDD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0ED18-7D25-4D1F-988D-3FD5496D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34BA4-C8FF-47BB-B83A-A3655B3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C701C-CA66-4EF8-88DD-CE86759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C516F-A47A-44E4-B0B4-E1397CA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99254-B1F6-4FD6-BB52-D01DAFD7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49746-874F-4C0C-B11D-E154C29F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896DC-6A54-42A9-8F66-2CA72CDE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F1D1-CA8A-41A9-8FF2-7EB71A76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13F38-C2A5-4D4F-9177-78158CB5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7F173-DD1B-4F18-BBCB-5603D88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9E81C-F46D-4E0A-9160-4662C98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8BBA1-B482-4A76-BC6C-CBA6767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AC987-8DEF-4998-8222-60E4060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B1630-C3EA-4A55-A1D6-92EE77C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F17EF-A43D-4B18-B649-06C62C2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527D3-6CD9-4A32-AFBE-8276AAD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06E6F-17FB-4298-8F58-943FB51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D7B9A-BF85-46D7-9E60-7A743B1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35AA-52F0-4294-8AAC-627C9F9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E93D1-1238-4EAB-8B03-F3DD7AA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D4AAA-7384-44FF-B224-335081A1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CE8F1-5482-41E7-A2FB-23A9996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ACE52-4E61-4867-B333-F0581060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8D908-7688-4552-98F2-50A1C3E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F375B-1072-4DF5-91AA-3CF5B71A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9B809-2BEA-4448-B01F-C33DBFA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9AB91-7043-4502-824A-72C18D4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AE2A6-E246-4B54-B306-0542F3C6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1D4D8-FFC9-44A9-9E06-E8ECA14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F886-87D2-4413-91DA-0137AF4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2CF7A-5302-45C4-BB4A-4D6C1F7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BC6D3-FB08-4520-ADAC-5BD0BBD6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D872F-D267-4474-8570-7EFF079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94A-2606-4343-98FB-57A1FCF9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0C3-CD22-451E-9A1D-EA9B168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DC33-9252-4C39-9BDB-C7A36D5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169-DD6D-4040-B718-5AE3001F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4538-ED37-40F9-A17B-0BE3BF2C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10B-0BBF-4702-9B99-2927F59F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7438-9C17-4342-9222-9DEA1301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1EC1-58A5-4ED9-B466-EC814016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F364-C8D6-4D5B-AA79-417A881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40F3-6EAF-414A-8A0A-CFD4291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A43B-130A-485E-B28A-2FFDB921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18B-A029-4B46-BA17-EAAC7691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F90C-3184-4173-9528-F82C19D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7833-B24E-4AE6-93A9-E34AFFF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3322-4CF9-45D2-B805-B07C831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E38B-8F59-4A57-8DD0-CD580DF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B19F-ADC0-4BA2-8916-78C27DBD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B89F-1C56-47BE-9B38-3AB998DB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4139-62AA-4490-A10A-1135080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C79F-0A7A-44F3-B68C-66ABBEF0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0A8E-049D-449D-97A6-CD2A8DE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823B-5BC1-422E-BEE6-2A851A1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271-E8AE-4F7A-8AAC-B8BEB82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A483-5FF2-4D00-99FB-1B300F2F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C10A-28B6-4341-8687-FAFAB420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9588-B586-48D8-9890-F4BB904F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126B-8A02-4578-894C-BF684C2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BDB4-F1CF-4F46-BD9C-A4EE1F6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EF1F-FE32-4BF8-95CB-A62D203E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4A2E-16FB-4E26-9B36-9A5F3D0D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4578-5DA5-4373-A8C9-0DC191B2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3D7A-6F00-4C56-B2E0-1AE9695F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6B21-2EA1-4F2E-8EE2-6E88D1DA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3F9-BBBD-4F4B-95BE-7E676E4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CE78-BA62-42DF-AF8A-1367FD35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543E-D8FE-4825-B80E-D9B2B0ED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4EE28-D5C0-4078-9B63-21357936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96E2-83C8-4F02-9C61-38D205D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2EE8-E056-4B4A-A725-386C531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39EA9-3006-4239-8C75-C917F2A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67BB-FAC9-476D-8ED0-211670D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B888-E2E7-48BD-9029-A25A1D8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B31F-89E5-4375-B3E5-FD56471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2339-2989-4042-B945-D8DF735B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750-035D-4B62-AC2C-9DF96A4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CA44-F1E5-4122-93BC-0C3F9EC4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2285-66C5-46C5-BCDC-06F5267C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07639-C8C5-40C0-B0B9-9853DE1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0984-B681-4596-A2C7-42704B7E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DE7D-9459-4052-8707-2CD2A9B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C3F5-19E4-4ACC-B0DE-B8F216D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02FF9-0C0F-47CC-8E4B-8F8F3DF8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1081-66E0-4F0F-A966-0E3F631E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41871-F3F7-402D-B930-16853DC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53F58-9E03-4ED4-A0F7-B217032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981-BC70-4D3C-A055-5FD8C56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6D3B-EEE0-4940-85A7-9395781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F5A8-8E39-4529-B794-CA9B83EB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E42D-C843-4E4D-9F64-83354AA5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39E0-6C7B-40A0-9CBB-9D1C2015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FDA79-A7DF-4E0E-9516-9EBBB23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E4338-15D4-48A8-ADAB-7D50E48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F86E0-CA6F-4B21-BB60-F512836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E9FD-FB37-4A72-80BD-E3942B4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C970-FE61-4BE5-BF64-D033CE60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FB30-93DD-485A-BB78-B21A805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81-BB12-45F6-88D6-95293C5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79E7-3359-46FE-8B32-58DF14D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3151-87CA-4334-9894-ED36483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4E6A-041E-4C53-BDC8-E84E900C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95AF-DFC4-45AB-9BA8-59DECD8E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473AF-4094-4D43-B2F2-561ECDBD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A29D5-99E5-45B3-91EE-B1A8FAB1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2B54-2674-42B0-8C4F-D3331864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02CA-B67F-4C2D-B1E4-6916035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21044-286C-4FAF-AF52-8B9ECEA0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E8321-5496-4B80-876C-344C808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0B6-D5A3-4E65-BF05-E19F20A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46F9-679F-4A61-9C82-CD62DDEC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73A3-6031-470B-B712-78ABBFF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C0FE-FD03-4EB3-93ED-396F2D8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78A3-4287-4D36-9A9B-5472479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99F2-5B7B-480A-9F91-5BBBC4DD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D7370-AAFF-492E-BFD6-1CBD145B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42F73-69B7-4DE6-BEAC-2900943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D8C9A-ADDE-45A9-84AC-2E870C6E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14B5-AA7A-4D30-80AE-C4B619B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D3297-BF18-4DDB-8108-502319C3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447-BB86-4A35-935A-B355F29E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82EF-5B34-4764-9AB9-D7027346FC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D8B5-4222-4DBA-BB0E-96162A3C9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3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B4A0-DECD-4AAB-821C-A9F13ABB3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A3E-2ED6-4D72-8DCC-BE02F03AAA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ftr" idx="4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474B-4E8A-4F21-A756-E016E70661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26C1-E39E-48E7-B833-E8AE88EBD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1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82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C9AD-8BF8-4E44-B8B2-700AD66BE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D01-E9FB-4A3A-98E2-77FF25AF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B76B-6442-465E-B381-77A3599895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F6F-EA40-4EA9-A4AE-1B37D96FAC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3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4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4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5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B64-1704-4373-BDC5-32E918AD43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2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2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3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4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4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4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5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301-F405-4A4C-824D-9519225042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A4E-D682-47B0-B011-568E26128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2D7-5463-481D-B50C-1EAC7B13C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2DB7-B3E5-4AA3-A8E5-7907EA4D5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3;&#1100;&#1084;&#1077;&#1082;&#1089;&#1082;&#1086;&#1077;_&#1087;&#1080;&#1089;&#1100;&#1084;&#1086;" TargetMode="External"/><Relationship Id="rId2" Type="http://schemas.openxmlformats.org/officeDocument/2006/relationships/hyperlink" Target="http://ru.wikipedia.org/wiki/&#1069;&#1087;&#1080;&#1086;&#1083;&#1100;&#1084;&#1077;&#1082;&#1080;" TargetMode="External"/><Relationship Id="rId3" Type="http://schemas.openxmlformats.org/officeDocument/2006/relationships/hyperlink" Target="http://ru.wikipedia.org/wiki/&#1069;&#1087;&#1080;&#1086;&#1083;&#1100;&#1084;&#1077;&#1082;&#1089;&#1082;&#1086;&#1077;_&#1087;&#1080;&#1089;&#1100;&#1084;&#1086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7;&#1088;&#1072;&#1084;&#1080;&#1082;&#1072;" TargetMode="External"/><Relationship Id="rId2" Type="http://schemas.openxmlformats.org/officeDocument/2006/relationships/hyperlink" Target="http://ru.wikipedia.org/w/index.php?title=&#1064;&#1090;&#1091;&#1082;&#1086;&#1074;&#1099;&#1081;_&#1088;&#1077;&#1083;&#1100;&#1077;&#1092;&amp;action=edit&amp;redlink=1" TargetMode="External"/><Relationship Id="rId3" Type="http://schemas.openxmlformats.org/officeDocument/2006/relationships/hyperlink" Target="http://ru.wikipedia.org/w/index.php?title=&#1064;&#1090;&#1091;&#1082;&#1086;&#1074;&#1099;&#1081;_&#1088;&#1077;&#1083;&#1100;&#1077;&#1092;&amp;action=edit&amp;redlink=1" TargetMode="External"/><Relationship Id="rId4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Что представляла собой письменность Майя?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скова Юл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ница 9 «В» класс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.Сыктывка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5464080" y="1600200"/>
            <a:ext cx="24051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ь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знакомиться с письменностью Май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знакомиться с происхождением пись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казать структуру письменности Май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учить принцип письмен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исхождение пись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 недавнего времени считалось, что майя могли заимствовать некоторые элементы, а возможно и основу своей письменности от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ольмек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 или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пиольмек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днако, согласно новым сведениям,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эпиольмекское письмо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, считавшееся возможным прямым предком письма майя, на несколько веков младше, и, возможно, является его прямым потомком. Другие месоамериканские культуры того времени разработали собственные системы письма, имевшие много общих черт с ольмекской, в частности — двадцатиричную систему счисления, обозначавшуюся системой точек и чер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4"/>
          <a:stretch/>
        </p:blipFill>
        <p:spPr>
          <a:xfrm>
            <a:off x="6040440" y="2017800"/>
            <a:ext cx="2017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исьменность Май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уктура письменности Май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Иероглифы Майя чаще всего записывались в колонках по два. В каждой они считались слева направо, сверху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3654360" y="2022480"/>
            <a:ext cx="183528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ывод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ость майя представляет собой хорошо разработанную систему символов, которые кропотливо вырисовывались на 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кера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тенах, записывались в бумажных кодексах, вырезались в дереве или камне или выполнялись в технике 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штукового</a:t>
            </a: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 рельеф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резанные или отлитые символы раскрашивались, однако краска в большинстве случаев не дошла до наших дней. Всего доступно около 7000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u.wikipedia.org/wiki/Письмо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.fund-intent.ru/science/scns173.s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02:52Z</dcterms:created>
  <dc:creator>07100</dc:creator>
  <dc:description/>
  <dc:language>en-US</dc:language>
  <cp:lastModifiedBy>07100</cp:lastModifiedBy>
  <dcterms:modified xsi:type="dcterms:W3CDTF">2009-11-25T13:08:32Z</dcterms:modified>
  <cp:revision>5</cp:revision>
  <dc:subject/>
  <dc:title>Что представляла собой письменность Майя?</dc:title>
</cp:coreProperties>
</file>